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18C9-32ED-40E9-A9E1-6CD829148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3EE7-A3B6-41DE-B529-C1DAEC4D66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34C9-80A6-4CF8-8670-E500C9E88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F4E5-640C-4C4D-B725-A996FAF73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7102-249C-4E45-A86F-642974330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9CE-72B0-45B0-805E-1D40825C2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F796-51F0-461D-AB33-612D32297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520E-6FBE-4070-ADA0-EF093E5953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BE84-EFE8-4267-A23C-D04295E8C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CA3A-4B24-4E66-AA58-832E3478F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2A4-18E5-404E-90FD-692BB2DE4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EBB-273B-4BED-8BDE-3811A68CC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77B-E992-40C2-8FB9-465CB8C8C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8A0A-501C-4180-85AB-B6427D424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1B8E-5615-424E-B3C4-DB8CC7668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850F-AB3A-4C0A-BA74-2E6B54B118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3567-0DC2-486E-9A66-899E63450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A185-1458-47B5-AB51-E35C87FF2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2CF3-3899-4A15-8673-81F54B94E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EA37-9992-4447-98E9-4A02CD98F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94A-2174-4AF7-8E77-757C77C0C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513C-C697-4BA4-A85D-1C3256EB7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0CC-2FD6-4021-8668-E7230F013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4CB6-09C1-41A3-B233-BCCB7072E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4DFA-4E21-420A-A933-C50FD0197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638-E9CE-4843-AAFF-3CBD0B10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510-C76A-40E8-A498-48F4CE8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09D-03F4-40C7-A62C-EB161A59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A96-773B-4DED-8E1C-92B17A64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C69-D220-4F66-AE88-A5B10B0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8E9-0BA5-4938-8A37-310465D9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35E-6CA5-4559-BB2A-4F8EA1AD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8B9-86CA-4BE0-9850-7F0915AF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2AC-941F-4A49-AFA7-9C212DBB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200-7412-4AB0-9A90-4858491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9A6-1FD8-453F-8124-0A8B723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177-C1F9-472D-A8D2-16EF363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9A8-6FE4-4481-8C33-5249B33D4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angel/188015247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bondomania/3315573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shesnuckinfuts/479667188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flickr.com/photos/ozoni11/2051474158/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flickr.com/photos/mundilfari_gjk/2326915802/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heguevara2001/200618190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cturebug/110649707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iseyshowaa/1400175456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13674581@N05/1396064977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shesnuckinfuts/479667188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bondomania/3315573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angel/188015247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arisiphoto/2676274227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shesnuckinfuts/479667188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flickr.com/photos/joangel/188015247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flickr.com/photos/bondomania/3315573/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flickr.com/photos/13674581@N05/1396064977/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flickr.com/photos/35663537@N00/85220431/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3.jpeg"/><Relationship Id="rId14" Type="http://schemas.openxmlformats.org/officeDocument/2006/relationships/image" Target="../media/image1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heguevara2001/200618190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cturebug/110649707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iseyshowaa/1400175456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lickr.com/photos/79873540@N00/439763505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arisiphoto/2676274227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35663537@N00/85220431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13674581@N05/1396064977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 To revise from last half-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0 parts of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play t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908000" y="5084640"/>
            <a:ext cx="66646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carrete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ini Motorway by Jo Ang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1214280"/>
            <a:ext cx="4303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coli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ne Tree Hill 2 by Bondsey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765000"/>
            <a:ext cx="4527360" cy="36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00000" y="5084640"/>
            <a:ext cx="7201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la naturale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Nature by shesnuckinf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89000"/>
            <a:ext cx="2951280" cy="226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Parade Magazine, Nature Conservancy Contest Winner by ozoni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1484280"/>
            <a:ext cx="2808360" cy="207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'DEEP VALLEY'  -  'THE MAGIC OF NATURE'   -  Best viewed large ! by Mundilfari*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3068640"/>
            <a:ext cx="2880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The Eye of the Forest by CheGuevara-Pau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60280"/>
            <a:ext cx="2232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Chauga River by Harriet  Picturebu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3857760"/>
            <a:ext cx="208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my tree at dusk by joiseyshowa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3429000"/>
            <a:ext cx="22320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Soil Sample by ero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5075280"/>
            <a:ext cx="18349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Nature by shesnuckinf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071880"/>
            <a:ext cx="9255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One Tree Hill 2 by Bondsey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00" y="0"/>
            <a:ext cx="2016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atural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Mini Motorway by Jo Ang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0"/>
            <a:ext cx="21603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Brazil's Countryside by Sergio Paris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2071800"/>
            <a:ext cx="2160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6920" y="189000"/>
            <a:ext cx="6840720" cy="65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to see if you were paying atten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) Escribe el espa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ñol y el ing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í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l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á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bos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l pais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a monta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a co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a carre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a natural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a tier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932360" y="2421000"/>
            <a:ext cx="421164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) Reorganiza las palab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español   en ing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eai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í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zanatla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b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n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143840" y="307188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5003640" y="3357720"/>
            <a:ext cx="41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atural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Nature by shesnuckinf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437000"/>
            <a:ext cx="2230560" cy="170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Mini Motorway by Jo Ang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4292640"/>
            <a:ext cx="2160720" cy="174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One Tree Hill 2 by Bondsey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2492280"/>
            <a:ext cx="2016360" cy="160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Soil Sample by eroos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365720"/>
            <a:ext cx="1834920" cy="178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eflection in Saif-ul-Malook Lake by Heartkin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16360" y="2349360"/>
            <a:ext cx="244764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Brazil's Countryside by Sergio Parisi"/>
          <p:cNvPicPr/>
          <p:nvPr/>
        </p:nvPicPr>
        <p:blipFill>
          <a:blip r:embed="rId11"/>
          <a:stretch/>
        </p:blipFill>
        <p:spPr>
          <a:xfrm>
            <a:off x="324000" y="2492280"/>
            <a:ext cx="2160360" cy="14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Sea life by luisa_m_c_m_cruz"/>
          <p:cNvPicPr/>
          <p:nvPr/>
        </p:nvPicPr>
        <p:blipFill>
          <a:blip r:embed="rId12"/>
          <a:stretch/>
        </p:blipFill>
        <p:spPr>
          <a:xfrm>
            <a:off x="7056360" y="333360"/>
            <a:ext cx="2087640" cy="175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my tree at dusk by joiseyshowaa"/>
          <p:cNvPicPr/>
          <p:nvPr/>
        </p:nvPicPr>
        <p:blipFill>
          <a:blip r:embed="rId13"/>
          <a:stretch/>
        </p:blipFill>
        <p:spPr>
          <a:xfrm>
            <a:off x="4716360" y="333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The Eye of the Forest by CheGuevara-Paul"/>
          <p:cNvPicPr/>
          <p:nvPr/>
        </p:nvPicPr>
        <p:blipFill>
          <a:blip r:embed="rId14"/>
          <a:stretch/>
        </p:blipFill>
        <p:spPr>
          <a:xfrm>
            <a:off x="2340000" y="260280"/>
            <a:ext cx="2232000" cy="16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hauga River by Harriet  Picturebug"/>
          <p:cNvPicPr/>
          <p:nvPr/>
        </p:nvPicPr>
        <p:blipFill>
          <a:blip r:embed="rId15"/>
          <a:stretch/>
        </p:blipFill>
        <p:spPr>
          <a:xfrm>
            <a:off x="179280" y="333360"/>
            <a:ext cx="208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bosqu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The Eye of the Forest by CheGuevara-Pau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052640"/>
            <a:ext cx="4527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r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í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hauga River by Harriet  Picturebu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981000"/>
            <a:ext cx="45990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árb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y tree at dusk by joiseyshowa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98100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el m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ea life by luisa_m_c_m_cru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907920"/>
            <a:ext cx="4238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el paisaj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Brazil's Countryside by Sergio Paris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268280"/>
            <a:ext cx="48150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la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eflection in Saif-ul-Malook Lake by Heartk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628640"/>
            <a:ext cx="446400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58920" y="189000"/>
            <a:ext cx="6553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monta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la tier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oil Sample by ero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052640"/>
            <a:ext cx="474336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04:50Z</dcterms:created>
  <dc:creator>Owner1</dc:creator>
  <dc:description/>
  <dc:language>en-US</dc:language>
  <cp:lastModifiedBy>Chris</cp:lastModifiedBy>
  <dcterms:modified xsi:type="dcterms:W3CDTF">2009-01-05T15:51:44Z</dcterms:modified>
  <cp:revision>6</cp:revision>
  <dc:subject/>
  <dc:title>Slide 1</dc:title>
</cp:coreProperties>
</file>